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AB5-E5D9-4C7B-98B2-8875DD2E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9EA-CCCE-4860-8FC7-1F392800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C6BAD-D373-4455-A327-A6DF9DE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EC3A-71BE-45FE-8DE1-6F9348B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9EE85-EA20-4242-8FB6-74C813DA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A5266-D169-412D-AA34-FE2BEDF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0AF9C-CA61-4DB7-9A80-2EDCE0C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16DC6-72F2-4A6B-806C-4895226E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E3ACF-F001-440F-BA3D-7982FD9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40B62-4D9C-4E28-AB7A-F50D4FFE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55BCF-F93E-465A-ABAD-8C73657B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66D39-EA3C-44EC-A787-AF4E987A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615-B803-4A03-98DD-65F3D6EC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E56EF-A4E8-4D8D-9092-2858E9FD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01AAA-1D34-468F-A6EB-6D45F73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5F449-5691-468B-B7EB-374CB04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DCBDF-A087-4A38-96AE-8719918D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8B7EC-B138-43AA-854E-A350BF9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F6DBB-346D-4F39-AA85-4A39B9C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2D934-9F2F-4453-A095-1132DD7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83055-2C2F-48F9-BF34-C688CEC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F56D-5EF0-42C7-8947-FB32030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914FD-F530-4E62-9979-97E2D262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FA2-FBC9-4D39-89C4-CF8869F5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08EE2-6F7C-4774-907A-4C0D119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D022-5A85-460A-8E75-4275528D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409D-CF52-4B81-91BB-0DEA233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FA7F-2C1C-45D6-A744-D8DD6BDA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B4C4-B795-42B2-B691-43118B9B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93FA-04B1-4421-B379-A66C3440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AACC8-A6BD-4F55-8793-671AF9D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A1D7-9CD4-4C58-ADCD-33C30E9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5E22-B781-4ECF-BD3D-7D561E9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74859-565E-4F83-B269-EF162C5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6AD-57CF-4120-8092-1151EC12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A9D03-8D2B-423C-9EC8-63C7EBD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1AC6-FA7C-4666-94D5-4193087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A55B8-984D-4111-9DC7-EAC2EB57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AF64-36B0-48BF-9964-F01C00E6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C3A12-3214-4C1C-9581-BA752C5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DFA8C-F8CB-4DF8-A576-762D1A8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4EA9D-E330-4535-8E82-CEED00BD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F4A37-EF9F-46D3-94FE-1B0D711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B19FA-BE6A-44C3-A8BA-7499C31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2B6F8-4EEF-41F9-8E1A-D6A7363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A9C0-1040-472E-82D2-990C7613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EC885-CF9F-4506-97B6-A5A70D28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32A12-F71D-4F7E-9F05-A5314C8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375C7-A6C0-4AC9-B9AF-E303B42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1643-8598-4E75-9DBB-B2BA691C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1427A-13F2-4466-AEFE-FFA056C5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C58E-29A5-4955-86DC-6A519D0B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C3E-333A-4BE4-B843-27BECDF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8D3-A462-4F5D-83DD-CB54A46B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807-3FD5-47D8-AEB4-6FC8AAB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99F-F52F-4053-824A-04007E0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91F-9E2D-44DE-A7B2-1FB631E3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31C-4330-421C-9D40-0EF2C26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534E-AA2D-4D48-A470-8E18954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592-EDAF-4CDF-BD0E-3C3CA05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44F4-3484-469B-B772-16C8888A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233-E354-4672-BF7F-93218765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BBDD-9650-4202-81C0-E9B3E98A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E4CC-C20D-4E30-B578-F7217818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18B4-A2B7-4A1A-9415-D448C56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54AF-BD9B-46B3-BB9B-B18ED60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0EE3-BE48-4844-8856-1553126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4AB-E859-4448-B6CA-8324AA0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79D8-6738-46EA-A5C8-EF09A074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83B5-AC62-4C91-B5B8-0E00542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3AE6-4B99-4BC6-8A14-37872ED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0A2F-2456-48F6-8B18-6FBB7AA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48B3-2F10-47E8-9B7B-AD36D53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B0D8-5D18-490C-B90C-771BA888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81D0-258B-4ECD-80AB-D9C1434D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39BC-18D8-4882-B5E7-CBC1865A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D9A2-1024-4CC9-9F65-C6C3CAA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C656-C2EB-4990-BC0C-1CDF80B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9D1-A401-400C-AF95-B55CED3E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E41E-FB8E-4D45-B209-F7FFD979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10AB-103E-4EE5-AF15-8C50F68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AAF4-BF3B-4675-96A6-275BE2E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E13C-D3B4-4615-96A5-973D504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4D0A-1A9D-4CC0-9ADF-CCC1FA4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996D-53D9-4507-8F71-F10C393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7605-7DE8-4C52-BE53-C9B57270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9881-5FBD-4C31-AB64-7A1ACF38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27FB-7303-461F-8DC0-421AD0FC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2C2D-4D58-4FAF-8587-405BF70D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41D-6E6C-4A92-88C3-B0E122C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22621-97D8-40DE-BC88-CEB1929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5FF7-AD21-4F88-91F9-39D4127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9FFC-097B-46E7-850F-13BAB4D6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A804-3E16-4462-BE2D-09260F3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70CB-6C8B-48C0-93B5-EB35916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192A-F341-4155-B209-AFE5128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18EC-3B5F-4378-96BF-0AAF9BA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F802-6B0B-4B3A-8D9F-44BB290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F2FD-C38D-4223-9F52-F0130A4C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D272-ED89-4D68-88DA-E2887D9E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C56-6B21-4864-A273-C94315C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B220-CB82-4288-80E4-D9737E0B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E255-9B69-4F0C-8A5E-80F4BAD7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CBA9-BB65-44F0-8A39-CA58319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8E02-47C2-4B02-9DCA-5B6DA4C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EF72-C4B4-4505-B7DF-DC9EDEF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DEC0-AB8D-4217-BB48-DD5D918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DC08-8CBA-4C2B-AAC2-F917128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3AE8-A5CD-4C6A-8B20-C9B62A0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8FE0-60AC-4429-BA41-C7EF9DC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D881-0E01-4CD0-8B62-F133851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47C-6201-47BB-A083-138A008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AC7F-C1FB-40CA-B9D9-600D0E5C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2CCF-4CE0-4A9B-A615-170B3304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8B59-F87F-4B32-AF59-C79BFFFD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DD9EB-30E1-4777-B5AE-6079701C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48255-D8AE-4889-A19B-DE89BF1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20370-E62A-4767-8F50-A2247943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CAB9-81A7-400B-A806-F3FE619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3DA91-C3B5-43CC-8C13-7261D6B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969D-1DEE-471F-B285-5D4C22F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D982-D1AC-4D9B-9B15-19DED71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98D-DAE8-4063-8B9A-1181443E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63C3-9B69-4221-8E6C-0DBCFA1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1816-0291-482F-BE97-EAE1201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AC1E-180F-4B5F-9EF6-2D820D2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CF81-1395-4FEF-BBE6-BB31B773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BBC6-BDD4-4EF4-BF83-973D5246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6054-EB75-4464-9FE1-13A8B08E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58674-1DBD-4E24-8DF4-96F80631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1F59-4704-424F-AC30-0ED7FB5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0953-AC3B-44A1-B50C-1035F41A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8F02-8572-4C9A-99E9-9A3A3BBF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BAF-2092-416C-A68F-6476421C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46384-0805-4BD0-9251-9EEFA987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C61E-DB32-4610-8141-1174BFA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5180-430C-41EF-B35A-F3B26B0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5AE9-B4B3-431F-BB7A-EFE03CC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1E830-39C0-407F-992B-2B3FFA5C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DB40-542F-4281-8580-2D93CB2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CB11-DC9E-4A31-AD97-E1226FD2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55E87-08FD-49F8-9F03-9E1F0554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7B078-0A81-4F69-B051-4773717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402D-06E6-455F-ACB4-06ED7301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7B67-577A-47E8-A052-86624983BE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56B-0945-4898-8F5D-E7DCDA40D2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996F-5820-44D0-8500-AAA3043549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427-3D30-4623-9574-054546C536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BE16-6DC6-432B-87DF-087AC2F9A1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37E-A628-47D8-88D8-52C4F86597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E6D-EF9F-433D-A696-D6CC29CAC0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2D4-48E8-4D82-81B6-C27423E0D4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4AA-F4A0-43ED-B49F-F3DA4D97DC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610C-333D-4275-8D9A-FB2067F18A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4D35-A4E7-4975-BEDD-924887E45D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52A-E4DF-4F5B-969A-6F512A6B0B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 Spievajme všetci radost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všetci radostn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nostn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hriešnym nádej priná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pádu nás dvíha, povzná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rdca zvesť tá dotkne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známte zvesť tú v šír i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e nás človekom sa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šiel Spasiteľ presvä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rieť na výšinách Golg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kúpení sme, ja i ty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si ho prijal, zaja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eľkú milosť vďaku vz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vetlo i štít máme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e, lásky on je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i raz všetku žalosť,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14:46Z</dcterms:modified>
  <cp:revision>30</cp:revision>
  <dc:subject/>
  <dc:title>Je veľký náš Pán, on slávy je Kráľ Nech do všetkých strán  spev vrúcnych znie chvál.</dc:title>
</cp:coreProperties>
</file>